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C629-9BE0-426B-B057-93B23BD234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6CA3-5144-4898-966F-76E554B301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iversary  reactions are normal for everyone, regardless of age. As an adult, think about the last significant loss in your time and chances are, you can recall the time of the year, month, perhaps even day of its occur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nsitivity to the passage of time is significant to adolescents as well- for even more reasons than for us as grown 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1CAF-BEB6-4666-8428-D472D1D1A0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may indicate that they have no reaction to the anniversary date at all- and they may n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2699-F254-4C60-936C-4114A4EE3E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may indicate that they have no reaction to the anniversary date at all- and they may no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C09A3-6159-4C3B-A1C6-0D1C61E27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CACAD-B591-4FB9-9EF1-EE5D9C720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141AF-A674-4CF5-BA03-936B2932C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356B4-94DC-426E-BF05-442215529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ACF4B-31F3-4A47-9683-A22D1A4AD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BD6DC-9779-450D-A244-6225729FB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F063A-EEF4-4BED-B939-2B34971CF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F5BF7-6814-422B-AE1D-0CEC1230D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4E1D3-C2D6-42CA-991C-402A4A662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A8781-FBDC-46E8-B589-8D67D81F8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58EF2-8339-4004-B70F-2D3B89C4B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A28C-2D57-4C1D-BC5A-D3162185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9D702-6F1B-408A-B305-75B61FFD2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0FB0D-8D35-4E6A-ACBB-D938BF9A2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A32A3-8BE8-4912-B495-8F41749DE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C1E0E-4929-4FE3-ACD4-9C688EAFD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47D34-09B2-41B8-99FE-47FFCB397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595E-37D0-44DB-B509-3CA4BBA9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FA146-1C59-414F-A01A-79735FC0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94FE5-BEAA-4EA5-BA92-895D1C5D7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0FC4-5E8B-48D4-8698-B75917BF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44D5-22DF-4F56-B00D-D09807958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9E9A-65F6-4D38-A9CE-0171A3F4E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5E9A9-5704-43EA-B54B-F9CEBA854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8000"/>
              <a:chOff x="41400" y="-4680"/>
              <a:chExt cx="1012320" cy="6858000"/>
            </a:xfrm>
          </p:grpSpPr>
          <p:sp>
            <p:nvSpPr>
              <p:cNvPr id="2" name="Freeform 4"/>
              <p:cNvSpPr/>
              <p:nvPr/>
            </p:nvSpPr>
            <p:spPr>
              <a:xfrm flipH="1">
                <a:off x="62640" y="-4680"/>
                <a:ext cx="979560" cy="68317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Freeform 5"/>
              <p:cNvSpPr/>
              <p:nvPr/>
            </p:nvSpPr>
            <p:spPr>
              <a:xfrm flipH="1">
                <a:off x="58320" y="1697040"/>
                <a:ext cx="9799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Freeform 6"/>
              <p:cNvSpPr/>
              <p:nvPr/>
            </p:nvSpPr>
            <p:spPr>
              <a:xfrm flipH="1">
                <a:off x="63000" y="1283760"/>
                <a:ext cx="979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 name="Freeform 7"/>
              <p:cNvSpPr/>
              <p:nvPr/>
            </p:nvSpPr>
            <p:spPr>
              <a:xfrm flipH="1">
                <a:off x="63000" y="148320"/>
                <a:ext cx="97956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 name="Freeform 8"/>
              <p:cNvSpPr/>
              <p:nvPr/>
            </p:nvSpPr>
            <p:spPr>
              <a:xfrm flipH="1">
                <a:off x="58320" y="989640"/>
                <a:ext cx="97992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 name="Freeform 9"/>
              <p:cNvSpPr/>
              <p:nvPr/>
            </p:nvSpPr>
            <p:spPr>
              <a:xfrm flipH="1">
                <a:off x="60120" y="680400"/>
                <a:ext cx="97992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Freeform 10"/>
              <p:cNvSpPr/>
              <p:nvPr/>
            </p:nvSpPr>
            <p:spPr>
              <a:xfrm flipH="1">
                <a:off x="61560" y="372600"/>
                <a:ext cx="99216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Freeform 11"/>
              <p:cNvSpPr/>
              <p:nvPr/>
            </p:nvSpPr>
            <p:spPr>
              <a:xfrm flipH="1">
                <a:off x="45720" y="3933720"/>
                <a:ext cx="9799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Freeform 12"/>
              <p:cNvSpPr/>
              <p:nvPr/>
            </p:nvSpPr>
            <p:spPr>
              <a:xfrm flipH="1">
                <a:off x="50400" y="3536640"/>
                <a:ext cx="97992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 name="Freeform 13"/>
              <p:cNvSpPr/>
              <p:nvPr/>
            </p:nvSpPr>
            <p:spPr>
              <a:xfrm flipH="1">
                <a:off x="50400" y="2397600"/>
                <a:ext cx="97992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 name="Freeform 14"/>
              <p:cNvSpPr/>
              <p:nvPr/>
            </p:nvSpPr>
            <p:spPr>
              <a:xfrm flipH="1">
                <a:off x="50400" y="3231000"/>
                <a:ext cx="97992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 name="Freeform 15"/>
              <p:cNvSpPr/>
              <p:nvPr/>
            </p:nvSpPr>
            <p:spPr>
              <a:xfrm flipH="1">
                <a:off x="50400" y="2931480"/>
                <a:ext cx="97992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 name="Freeform 16"/>
              <p:cNvSpPr/>
              <p:nvPr/>
            </p:nvSpPr>
            <p:spPr>
              <a:xfrm flipH="1">
                <a:off x="50400" y="2616480"/>
                <a:ext cx="99216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 name="Freeform 17"/>
              <p:cNvSpPr/>
              <p:nvPr/>
            </p:nvSpPr>
            <p:spPr>
              <a:xfrm flipH="1">
                <a:off x="48960" y="4966200"/>
                <a:ext cx="9799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 name="Freeform 18"/>
              <p:cNvSpPr/>
              <p:nvPr/>
            </p:nvSpPr>
            <p:spPr>
              <a:xfrm flipH="1">
                <a:off x="53640" y="4552200"/>
                <a:ext cx="9799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 name="Freeform 19"/>
              <p:cNvSpPr/>
              <p:nvPr/>
            </p:nvSpPr>
            <p:spPr>
              <a:xfrm flipH="1">
                <a:off x="45720" y="5659560"/>
                <a:ext cx="97992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 name="Freeform 20"/>
              <p:cNvSpPr/>
              <p:nvPr/>
            </p:nvSpPr>
            <p:spPr>
              <a:xfrm flipH="1" rot="16200000">
                <a:off x="361440" y="6189840"/>
                <a:ext cx="345960" cy="9810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 name="Freeform 21"/>
              <p:cNvSpPr/>
              <p:nvPr/>
            </p:nvSpPr>
            <p:spPr>
              <a:xfrm flipH="1">
                <a:off x="41400" y="6194520"/>
                <a:ext cx="979920" cy="429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 name="Freeform 22"/>
              <p:cNvSpPr/>
              <p:nvPr/>
            </p:nvSpPr>
            <p:spPr>
              <a:xfrm flipH="1">
                <a:off x="41400" y="5884920"/>
                <a:ext cx="99216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1554-CBF7-4653-8549-0BAF989FAA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3760"/>
              <a:chOff x="-3240" y="2479680"/>
              <a:chExt cx="9146880" cy="1013760"/>
            </a:xfrm>
          </p:grpSpPr>
          <p:sp>
            <p:nvSpPr>
              <p:cNvPr id="66" name="Freeform 4"/>
              <p:cNvSpPr/>
              <p:nvPr/>
            </p:nvSpPr>
            <p:spPr>
              <a:xfrm flipH="1" rot="5400000">
                <a:off x="4089600" y="-1576080"/>
                <a:ext cx="98928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 name="Freeform 5"/>
              <p:cNvSpPr/>
              <p:nvPr/>
            </p:nvSpPr>
            <p:spPr>
              <a:xfrm flipH="1" rot="5400000">
                <a:off x="6051600" y="2649240"/>
                <a:ext cx="98928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 name="Freeform 6"/>
              <p:cNvSpPr/>
              <p:nvPr/>
            </p:nvSpPr>
            <p:spPr>
              <a:xfrm flipH="1" rot="5400000">
                <a:off x="6590520" y="2648520"/>
                <a:ext cx="9892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 name="Freeform 7"/>
              <p:cNvSpPr/>
              <p:nvPr/>
            </p:nvSpPr>
            <p:spPr>
              <a:xfrm flipH="1" rot="5400000">
                <a:off x="8241840" y="2784240"/>
                <a:ext cx="9892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0" name="Freeform 8"/>
              <p:cNvSpPr/>
              <p:nvPr/>
            </p:nvSpPr>
            <p:spPr>
              <a:xfrm flipH="1" rot="5400000">
                <a:off x="7094880" y="2750040"/>
                <a:ext cx="9892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 name="Freeform 9"/>
              <p:cNvSpPr/>
              <p:nvPr/>
            </p:nvSpPr>
            <p:spPr>
              <a:xfrm flipH="1" rot="5400000">
                <a:off x="7447320" y="2696040"/>
                <a:ext cx="98928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 name="Freeform 10"/>
              <p:cNvSpPr/>
              <p:nvPr/>
            </p:nvSpPr>
            <p:spPr>
              <a:xfrm flipH="1" rot="5400000">
                <a:off x="7893000" y="2742480"/>
                <a:ext cx="100188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 name="Freeform 11"/>
              <p:cNvSpPr/>
              <p:nvPr/>
            </p:nvSpPr>
            <p:spPr>
              <a:xfrm flipH="1" rot="5400000">
                <a:off x="3054960" y="2642760"/>
                <a:ext cx="98892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 name="Freeform 12"/>
              <p:cNvSpPr/>
              <p:nvPr/>
            </p:nvSpPr>
            <p:spPr>
              <a:xfrm flipH="1" rot="5400000">
                <a:off x="3594240" y="2640600"/>
                <a:ext cx="9892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 name="Freeform 13"/>
              <p:cNvSpPr/>
              <p:nvPr/>
            </p:nvSpPr>
            <p:spPr>
              <a:xfrm flipH="1" rot="5400000">
                <a:off x="5248800" y="2776320"/>
                <a:ext cx="98928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 name="Freeform 14"/>
              <p:cNvSpPr/>
              <p:nvPr/>
            </p:nvSpPr>
            <p:spPr>
              <a:xfrm flipH="1" rot="5400000">
                <a:off x="4099680" y="2742120"/>
                <a:ext cx="9892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7" name="Freeform 15"/>
              <p:cNvSpPr/>
              <p:nvPr/>
            </p:nvSpPr>
            <p:spPr>
              <a:xfrm flipH="1" rot="5400000">
                <a:off x="4455000" y="2690280"/>
                <a:ext cx="98892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8" name="Freeform 16"/>
              <p:cNvSpPr/>
              <p:nvPr/>
            </p:nvSpPr>
            <p:spPr>
              <a:xfrm flipH="1" rot="5400000">
                <a:off x="4893840" y="2730600"/>
                <a:ext cx="100188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9" name="Freeform 17"/>
              <p:cNvSpPr/>
              <p:nvPr/>
            </p:nvSpPr>
            <p:spPr>
              <a:xfrm flipH="1" rot="5400000">
                <a:off x="1680480" y="2649240"/>
                <a:ext cx="98928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 name="Freeform 18"/>
              <p:cNvSpPr/>
              <p:nvPr/>
            </p:nvSpPr>
            <p:spPr>
              <a:xfrm flipH="1" rot="5400000">
                <a:off x="2219400" y="2648520"/>
                <a:ext cx="9892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 name="Freeform 19"/>
              <p:cNvSpPr/>
              <p:nvPr/>
            </p:nvSpPr>
            <p:spPr>
              <a:xfrm flipH="1" rot="5400000">
                <a:off x="876960" y="2776320"/>
                <a:ext cx="9892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 name="Freeform 20"/>
              <p:cNvSpPr/>
              <p:nvPr/>
            </p:nvSpPr>
            <p:spPr>
              <a:xfrm flipH="1">
                <a:off x="-3240" y="2479680"/>
                <a:ext cx="461520" cy="9907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 name="Freeform 21"/>
              <p:cNvSpPr/>
              <p:nvPr/>
            </p:nvSpPr>
            <p:spPr>
              <a:xfrm flipH="1" rot="5400000">
                <a:off x="83160" y="2690280"/>
                <a:ext cx="98892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 name="Freeform 22"/>
              <p:cNvSpPr/>
              <p:nvPr/>
            </p:nvSpPr>
            <p:spPr>
              <a:xfrm flipH="1" rot="5400000">
                <a:off x="522000" y="2730600"/>
                <a:ext cx="100188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59DA-96F3-4202-9664-2E8E34404E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Verdana"/>
              </a:rPr>
              <a:t>SUICIDE ANNIVERSARY DAT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UNDERSTANDING STUDENT REACTIONS</a:t>
            </a:r>
            <a:endParaRPr b="0" lang="en-US" sz="2800" spc="-1" strike="noStrike">
              <a:solidFill>
                <a:srgbClr val="000000"/>
              </a:solidFill>
              <a:latin typeface="Arial"/>
            </a:endParaRPr>
          </a:p>
        </p:txBody>
      </p:sp>
      <p:pic>
        <p:nvPicPr>
          <p:cNvPr id="137" name="Picture 4" descr="SPTS_LOGO[1]"/>
          <p:cNvPicPr/>
          <p:nvPr/>
        </p:nvPicPr>
        <p:blipFill>
          <a:blip r:embed="rId1"/>
          <a:stretch/>
        </p:blipFill>
        <p:spPr>
          <a:xfrm>
            <a:off x="762120" y="1224000"/>
            <a:ext cx="5778360" cy="21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Else Can You Do?</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class material for curriculum reminder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ontent dealing with death, trauma</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substituting resiliency-based assign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hy Do Teens React to Anniversary Dates?</a:t>
            </a:r>
            <a:endParaRPr b="0" lang="en-US" sz="4000" spc="-1" strike="noStrike">
              <a:solidFill>
                <a:srgbClr val="003366"/>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cause death is more difficult in adolescence than at any other point in the life cyc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normal developmental ta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ultimate questions about the “meaning of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Do Teens Cope?</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the reality of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on’t happen to me or my frien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he envelope with risky activ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arallel’ universe for dece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hat Kids Are Most At-Risk for Anniversary Reactions?</a:t>
            </a:r>
            <a:br>
              <a:rPr sz="4000"/>
            </a:br>
            <a:endParaRPr b="0" lang="en-US" sz="40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friend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mate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mate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ommitted to keeping memory of deceased alive</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ho self-report being affected by anniver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4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m in advance of anniversary d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y closer attention to school 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behavi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ppear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ardi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hanges from previous level of function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K! about their re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know you were friends with Tim, I was wondering how you’re doing with the year  anniversary of his dea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ot be the first person to call their attention to this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EN to their response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e their feeling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can understand that this time brings up all those feelings from last year. I’m really sorry you lost someone who meant so much to you”…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m glad to hear you’re doing ok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ow to Approach These Students</a:t>
            </a:r>
            <a:br>
              <a:rPr sz="4000"/>
            </a:br>
            <a:endParaRPr b="0" lang="en-US" sz="40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ind students about in-school resour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need to talk, just let me know. I’m willing to listen or I can put you in touch with someone here at school who’s in a great position to give you some extra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If You’re Worried About A Student….</a:t>
            </a:r>
            <a:endParaRPr b="0" lang="en-US" sz="40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lt with your school resource staf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Ms.  ______ (contact in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ther members of the crisis team identified as resources for this purp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50:14Z</dcterms:created>
  <dc:creator>maureen</dc:creator>
  <dc:description/>
  <dc:language>en-US</dc:language>
  <cp:lastModifiedBy>Dutra, Louise</cp:lastModifiedBy>
  <dcterms:modified xsi:type="dcterms:W3CDTF">2013-12-04T20:31:34Z</dcterms:modified>
  <cp:revision>3</cp:revision>
  <dc:subject/>
  <dc:title>Slide 1</dc:title>
</cp:coreProperties>
</file>